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08D4-7AA8-4418-A471-B64A1F4D3B5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http://lifewallpaperz.com/image.php?pic=/images/2015/sunlight/sunlight-0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8918-31E5-408C-8B48-CF4A209BA7F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iws.collin.edu/biopage/faculty/mcculloch/1406/outlines/chapter%2010/chap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il.mahidol.ac.th/e-media/electrochemistry/web/pictures/nad.gif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sivabio.50webs.com/plastid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ws.collin.edu/biopage/faculty/mcculloch/1406/outlines/chapter%2010/chap10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7461-5EDF-4AF1-87EC-C225BBEF91D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4851-C074-4A93-AE93-B9F27096C1B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D0AC-FADA-4718-A36C-CE0B7C832DA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C263-0FA6-4401-AD4A-033F0923F19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artinaid.com/wp-content/uploads/2013/04/Light-absorption-in-photosynthesis.p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786E-F518-4BCD-8233-6D0ECF3F869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163.16.28.248/bio/activelearner/08/ch8c2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kensieandhuntersproject.blogspot.c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tokresource.org/tok_classes/biobiobio/biomenu/photosynthesi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D49-DA9F-473A-854D-93595BF0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895-0FDD-4350-A041-012E62FF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CBD-99DF-4BE8-AFA2-2D45F120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073-7D2E-42F6-A162-18199D58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F38-6B14-4ED4-A022-F7D171F3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8CB-8437-4899-9A12-6E01A76A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4FD-9AAB-4871-901B-F66DD8B1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267-23AC-44B1-83E4-CE8BE405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14A-7C6E-4365-8579-E3D0A3DC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91E-E546-4539-9A3A-1E974CD9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B0A-1CF6-4C91-8875-6FD7AA03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28A-C604-48C0-9B3A-5CAEAC03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4F09-65CD-487C-A0F0-1688A4EBC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khanacademy.org/science/biology/photosynthesis/v/photosynthesis-light-reactions-and-photophosphorylation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cell.ndsu.edu/animations/photosynthesis/movie-flash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0-1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visit the Khan Academ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tic explanation of electron transport in photosynthesis (20 minutes 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khanacademy.org/science/biology/photosynthesis/v/photosynthesis-light-reactions-and-photo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NAD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amide adenine dinucleotide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nzyme used in anabolic reactions such as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nad"/>
          <p:cNvPicPr/>
          <p:nvPr/>
        </p:nvPicPr>
        <p:blipFill>
          <a:blip r:embed="rId1"/>
          <a:stretch/>
        </p:blipFill>
        <p:spPr>
          <a:xfrm>
            <a:off x="4648320" y="1641600"/>
            <a:ext cx="40384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las015"/>
          <p:cNvPicPr/>
          <p:nvPr/>
        </p:nvPicPr>
        <p:blipFill>
          <a:blip r:embed="rId1"/>
          <a:stretch/>
        </p:blipFill>
        <p:spPr>
          <a:xfrm>
            <a:off x="1104840" y="1371600"/>
            <a:ext cx="6932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rtual cell mov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Electron Transport Chain in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self-quiz…try it!  (I can’t download the animation but maybe you ca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looking to test yourself…do a search for “light-dependent reactions quiz” &amp; see what you fi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ation of elect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hotosystem II (chlorophyll P680), which is transferred to primary electron ac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(non-cyclic) electron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osmosis (ATP sy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3" descr="Light-absorption-in-photosynthesis.png"/>
          <p:cNvPicPr/>
          <p:nvPr/>
        </p:nvPicPr>
        <p:blipFill>
          <a:blip r:embed="rId1"/>
          <a:srcRect l="1546" t="0" r="154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h08c2"/>
          <p:cNvPicPr/>
          <p:nvPr/>
        </p:nvPicPr>
        <p:blipFill>
          <a:blip r:embed="rId1"/>
          <a:stretch/>
        </p:blipFill>
        <p:spPr>
          <a:xfrm>
            <a:off x="766800" y="1600200"/>
            <a:ext cx="761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u4fg44"/>
          <p:cNvPicPr/>
          <p:nvPr/>
        </p:nvPicPr>
        <p:blipFill>
          <a:blip r:embed="rId1"/>
          <a:stretch/>
        </p:blipFill>
        <p:spPr>
          <a:xfrm>
            <a:off x="457200" y="446040"/>
            <a:ext cx="830592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07_08aPhotosElectronFlow_L"/>
          <p:cNvPicPr/>
          <p:nvPr/>
        </p:nvPicPr>
        <p:blipFill>
          <a:blip r:embed="rId1"/>
          <a:stretch/>
        </p:blipFill>
        <p:spPr>
          <a:xfrm>
            <a:off x="457200" y="1382760"/>
            <a:ext cx="8229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5-10-23T18:37:26Z</dcterms:modified>
  <cp:revision>119</cp:revision>
  <dc:subject/>
  <dc:title>Slide 1</dc:title>
</cp:coreProperties>
</file>